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D33C-635B-4255-A664-FA66BBAD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F009-26E6-41BD-B6EB-E0BFC7A1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A947-B644-472A-8A36-2A4091D5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CE51-7A29-4B91-9DC2-0E783F46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F399-8AC4-4C85-BD37-C3785293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866B-7302-47F4-83BD-83AE07C1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3FD-10BB-43D1-9A15-797B95CB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2B69-4C98-4A8A-8B1E-EF3B5883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9A01-A477-4C45-B1B1-681854C1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593-DF6C-4E52-B104-982202F9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4B68-04A5-4242-BE5D-373410FF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88E9-D79A-4764-B793-2258DF68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495B-9565-4F0C-AED3-1D1B48501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d Scarecr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yne’s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d Scarecr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ade a scarecrow for the front yard every year, but this year it was b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2711520"/>
            <a:ext cx="3581640" cy="3408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eyeballs are too far apart its teeth are too crook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2971800" cy="3408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n’t enough hay. But my dad said it was per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2890800" cy="2895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108840" y="3962520"/>
            <a:ext cx="3035160" cy="28954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n’t that g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6:18:19Z</dcterms:created>
  <dc:creator>student</dc:creator>
  <dc:description/>
  <dc:language>en-US</dc:language>
  <cp:lastModifiedBy>student</cp:lastModifiedBy>
  <dcterms:modified xsi:type="dcterms:W3CDTF">2010-10-28T18:00:19Z</dcterms:modified>
  <cp:revision>7</cp:revision>
  <dc:subject/>
  <dc:title>The bad scarecrow</dc:title>
</cp:coreProperties>
</file>